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A7F-2F96-4727-8A33-904DBEAF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307-65A8-437D-9861-8DA9BACE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8B8-5798-4B03-AE0D-4E81D130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911-BB3D-42F6-8E0C-9D4FC3FD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273-E708-4A4F-8A4F-475E44D0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089-A678-4E63-8AFA-E93D9158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BAF-F897-40E4-B6A3-EFEA6725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D31-170F-4F3F-9C01-58CEB052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E1C-00A7-453B-B889-6D94D034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A66-512F-41B7-887E-0F9D931F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406-5078-4F2E-A32E-5C0BE9C3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FAC-703B-4C4C-A901-F8FA46B3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03D7-09E5-4A1C-826D-C87B89A9A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2920" r="0" b="27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picture above and write your own naturalistic story to go along with it. 1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3:40:38Z</dcterms:created>
  <dc:creator>Angie</dc:creator>
  <dc:description/>
  <dc:language>en-US</dc:language>
  <cp:lastModifiedBy>Angie</cp:lastModifiedBy>
  <dcterms:modified xsi:type="dcterms:W3CDTF">2010-01-03T23:43:15Z</dcterms:modified>
  <cp:revision>2</cp:revision>
  <dc:subject/>
  <dc:title>Slide 1</dc:title>
</cp:coreProperties>
</file>